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whoosh.wav" ContentType="audio/x-wav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10DE-1670-41C0-9002-C6437EFF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EE10-399A-488F-89CB-500D006D56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003F-528C-481C-B3D1-49FBCC542E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8CA0-F5C6-4A2C-B503-5BA2B963D9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FA00-2116-43F4-81A0-5E2705EE38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0BE-8E79-4AE6-96DC-E1A1BABDE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71F5-6B81-4BC0-B58A-B4278F50AB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9850-88FC-420A-885F-E84A03B2D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5C03-88EB-4835-9840-C8F97B66F9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74D3-BFD5-45F6-A6C3-A11DABCD7E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F75C-4DA8-46EF-97E4-74736F5CE0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59EA-B2F4-4EA9-8895-EBD707B6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547-08D2-4EE6-9226-091F261B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7FA-B405-4FB0-9E1E-673E1399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DBF-F856-464D-9DAE-C5925DE9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0E20-2EE1-4706-B548-D25C430F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F969-AD63-4179-A6D6-D6B382BB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82DD-7BCB-4F47-B564-9534D098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062-853B-4673-9700-BE2AB473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4F82-ACBA-4925-B761-1E1914F6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530-27E8-4745-97B1-6A97EC6D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2FC4-717B-4F97-9BFC-1816279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0CD-7E00-4719-9BA5-52600622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306A-5925-442E-965F-8BEFA210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5B0-C6B6-419F-9F6D-AC354CC2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8316-9F6E-431F-A668-5DBB96B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3F08-9F57-45AE-BBC6-7725800B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2B11-5D6F-4ECA-B43B-8622C139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931-D499-4635-9625-5EFAC9B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A5A-6CE1-4EC8-8582-F58038C2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F7A-E85E-4B26-B262-EF24DB6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430-C606-4EC4-A47B-ABEA7AF5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03D3-C566-4F53-960B-0D7AFAFA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1CF-1A07-4CFA-B2E4-11556631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991-8AEE-40C0-BD02-C98B6AB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81D8-856A-40CC-BC7F-51FE11C55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5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5132-E958-4176-A78E-CA3C56B289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3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XECUTIVE BRANCH ONQ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stions to check y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the answers ON A SEPARATE PIECE OF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 You for following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28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9. What are the qualifications to be Vice President of the United St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3027240" y="3124080"/>
            <a:ext cx="30895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0. What is the total number of electoral votes available to Presidential candidate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1938240" y="3067200"/>
            <a:ext cx="526752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525240"/>
            <a:ext cx="9144000" cy="21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1. Which article of the Constitution establishes the Executive Branch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609480" y="3525840"/>
            <a:ext cx="3459240" cy="2590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124440" cy="439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2. How many electoral votes does a candidate need to win the Presidential election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3271680" y="2819520"/>
            <a:ext cx="2600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457200"/>
            <a:ext cx="8915400" cy="34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3. Name the three qualifications to be President of the United Stat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2847960" y="2854440"/>
            <a:ext cx="344808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4. A President is limited to serving no more than __ years as President of the United States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3"/>
          <a:stretch/>
        </p:blipFill>
        <p:spPr>
          <a:xfrm>
            <a:off x="2971800" y="2895480"/>
            <a:ext cx="2536920" cy="389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5. How many electoral votes does Tennessee have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3"/>
          <a:stretch/>
        </p:blipFill>
        <p:spPr>
          <a:xfrm>
            <a:off x="1600200" y="3048120"/>
            <a:ext cx="55069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7714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6. What Amendment limits Presidential terms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3"/>
          <a:stretch/>
        </p:blipFill>
        <p:spPr>
          <a:xfrm>
            <a:off x="2428920" y="2895480"/>
            <a:ext cx="4286160" cy="3198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5410080" y="3990960"/>
            <a:ext cx="1305000" cy="9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7. What is the FIRST cabinet position in the line of succession for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2744640" y="2895480"/>
            <a:ext cx="3654720" cy="37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lag Background"/>
          <p:cNvPicPr/>
          <p:nvPr/>
        </p:nvPicPr>
        <p:blipFill>
          <a:blip r:embed="rId1"/>
          <a:stretch/>
        </p:blipFill>
        <p:spPr>
          <a:xfrm>
            <a:off x="-914400" y="-380880"/>
            <a:ext cx="1097280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433440"/>
            <a:ext cx="91440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Black"/>
              </a:rPr>
              <a:t>8. What is the LAST cabinet position in the line of succession for President?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7772400" cy="36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"/>
          <p:cNvPicPr/>
          <p:nvPr/>
        </p:nvPicPr>
        <p:blipFill>
          <a:blip r:embed="rId3"/>
          <a:stretch/>
        </p:blipFill>
        <p:spPr>
          <a:xfrm>
            <a:off x="2259000" y="2965320"/>
            <a:ext cx="462600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3:44:01Z</dcterms:created>
  <dc:creator>THOMAS_SAUER</dc:creator>
  <dc:description/>
  <dc:language>en-US</dc:language>
  <cp:lastModifiedBy>SysAdmin</cp:lastModifiedBy>
  <dcterms:modified xsi:type="dcterms:W3CDTF">2012-02-24T17:51:28Z</dcterms:modified>
  <cp:revision>143</cp:revision>
  <dc:subject/>
  <dc:title>D/O: TO EXPLAIN AND IDENTIFY PROBLEMS OF ECONOMICS</dc:title>
</cp:coreProperties>
</file>